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A172-BBDB-4931-836F-5FE015B07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rbhs-sbi3u03.wikispaces.com/12.5+Transport+in+Vascular+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.howstuffworks.com/dictionary/plant-terms/root-info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4fcorner.files.wordpress.com/2013/03/img_6223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ommons.wikimedia.org/wiki/File:Acer-saccharinum-leaves-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40AA-1943-4A11-8EB9-681C1E07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C190-1096-499D-9141-B68F425B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DA10-969E-487F-B475-CE1E1808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6DCB-0974-428B-B088-8AD75DD4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D58A-CE46-4D3A-8CA7-307963AD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61CA-2EA5-4886-A81B-69C75A19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3AB-D508-4925-B7FC-498417AF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0489-F0B2-4C8F-9770-B81B48FF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49CC-7EBF-4237-859C-4E7AB2B3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D63C-C83C-426B-A529-BD6E3DF8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2A0C-E083-41E3-B49D-C93A7395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0780-E121-4684-85CA-64FAAEDF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4F9D-785F-4E02-8F76-0B6941230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in Vascular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cular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y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nsports nutrients in the soil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s are transported only in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into the R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moves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sm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ents move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ns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quires energ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221440" y="1676520"/>
            <a:ext cx="25873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into the 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s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rom nutrients moving into the roots) pushes xylem sap up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ill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helps with moving xylem sap upwar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38760" y="160020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to the 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pi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vaporation of water) pulls water up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343400" y="2252520"/>
            <a:ext cx="426708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of Sug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ny cell with a high concentration of sug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ny cell with a low concentration of sug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 of source &amp; sink cells may change depending on stage or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 to Ph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transport from source cells to ph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moves into phloem through osm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o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long-distance transport of substances through the ph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loem to S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s diffuse from phloem into the sink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moves into phloem through osm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3T09:59:45Z</dcterms:created>
  <dc:creator>rubina khan</dc:creator>
  <dc:description/>
  <dc:language>en-US</dc:language>
  <cp:lastModifiedBy>rubina khan</cp:lastModifiedBy>
  <dcterms:modified xsi:type="dcterms:W3CDTF">2013-06-03T10:20:43Z</dcterms:modified>
  <cp:revision>28</cp:revision>
  <dc:subject/>
  <dc:title>PowerPoint Presentation</dc:title>
</cp:coreProperties>
</file>